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DEB-625D-49D1-84E8-9391B42A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692-8532-4B20-94A2-F060467D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192-1342-4E3A-9551-22447F9B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29A-0513-40EB-860B-C4949435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BF4-3D97-421F-A96B-50D88625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ECF-0DB3-4ACA-B8F2-8B1B3C0A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D17-9BB3-4835-82B2-D3EB8DDA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EC4-CD31-460B-9115-E370C5CC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051-2C61-41C8-8781-0FAA2665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487-3DA3-4909-81BC-C09B4CF0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4D2-F154-4802-8C40-07A806B3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2F5-A44A-4132-9B8D-94BEDBF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2564-6E80-4A76-B7C1-17E6C62CD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17528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5486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 glycoge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09680"/>
            <a:ext cx="883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orage form of glucose made by joining glucose subunits into chains that is used by animal cells to store glucose for long-term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4956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itric acid cycl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666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other name for the Krebs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03848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fermentation 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 by which cells release energy in the absence of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pyruvic aci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(OR pyruvate)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0" y="297180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2860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carbon molecule formed when glucose splits in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648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TP syntha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2096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nzyme that spins as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o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ss through and produces AT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562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itric ac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4382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 that forms when Acetyl-CoA adds its acetyl group to a 4 carbon molecule during the first step of the Krebs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562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lactic aci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438280"/>
            <a:ext cx="73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 that builds up in muscles during intense exercise that forms when cells run out of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4724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are  NAD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and FA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43828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that act as high energ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ron carriers during cellular respir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648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 alcoholic fermentatio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209680"/>
            <a:ext cx="883908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this pathw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uvic + NAD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alcohol + 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D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   </a:t>
            </a:r>
            <a:br>
              <a:rPr sz="3600"/>
            </a:b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i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419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 glycolysis, Krebs cycle, and Electron Transport Chai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74320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3 stages that make up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1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5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886200"/>
            <a:ext cx="914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+ 6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→ 6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 + 6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+ ENERGY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1337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rite the chemical equation for cellular respi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2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362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umber of ATP’s that must be added to get glycolysis sta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572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What is it reacts with CoA and enters Krebs cycle?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0574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next step pyruvic acid follows if oxygen is pres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4114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glycolysi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133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rst step in the breakdown of gluc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240" y="15156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mage from: http://io.uwinnipeg.ca/~simmons/16cm05/1116/16anim3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4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36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umber of ATP’s produced from 1 molecule of glucose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mpletes aerobic cellular respi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886200"/>
            <a:ext cx="754380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they end up in CO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 are released into the atmosp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9840" y="2286000"/>
            <a:ext cx="68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te of the carbons in gluc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1814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oxyge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243828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lecule that is the final electron  acceptor at the end of the Electron Transport Ch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876920"/>
            <a:ext cx="85341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What is they combine with oxygen to make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2362320"/>
            <a:ext cx="84582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ate of the high energy electrons and Hydrogens in NADH and FAD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29600" y="0"/>
            <a:ext cx="45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http://www.zo.utexas.edu/faculty/sjasper/images/so28_04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5909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is D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105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matri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12928" t="0" r="9495" b="0"/>
          <a:stretch/>
        </p:blipFill>
        <p:spPr>
          <a:xfrm>
            <a:off x="4876920" y="1752480"/>
            <a:ext cx="3657600" cy="334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640" y="6400800"/>
            <a:ext cx="56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modified from: Pearson Education Inc; publishing as Pearson Prenctice Hal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495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inner membrane (crista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3372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place in the mitochondr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the Electron Transport Chain is loca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429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ermembrane spac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133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is B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13374" t="0" r="10483" b="0"/>
          <a:stretch/>
        </p:blipFill>
        <p:spPr>
          <a:xfrm>
            <a:off x="4876920" y="1752480"/>
            <a:ext cx="40384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495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the  matri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590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place in the mitochondria where the Krebs cycle happ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86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B (intermembrane space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0968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ce where H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ons build up as electrons move down the Electron Transport Ch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3374" t="0" r="11448" b="0"/>
          <a:stretch/>
        </p:blipFill>
        <p:spPr>
          <a:xfrm>
            <a:off x="4724280" y="1905120"/>
            <a:ext cx="4191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naerobic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2286000"/>
            <a:ext cx="845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t means “not in air” 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cess that happens without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267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a Calorie (capitalized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2096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it used by scientists to measure the energy stored in foo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riedellke</cp:lastModifiedBy>
  <dcterms:modified xsi:type="dcterms:W3CDTF">2008-02-12T14:50:26Z</dcterms:modified>
  <cp:revision>103</cp:revision>
  <dc:subject/>
  <dc:title>Semester 2</dc:title>
</cp:coreProperties>
</file>